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CFC7-E1D7-4F83-83A8-1AB3D6B43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C3F9-DAA5-40DC-8ADF-578F3D6E6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9EF-AD05-4931-91F3-82477A59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91F-7EB2-43E9-86BB-4AC27A61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C07-5B40-4896-94E4-438082A1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3C8-9218-4FEC-B3AD-0BCC23EA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0D4-6CE0-437E-9B72-9C637D95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891-3A0C-4BC9-BB07-C52B3AEC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BBB-5AF1-48C1-9C96-B01ABBCE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FDF-1DDC-489A-9E68-A152B811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873-257F-4B56-8A63-93918AA2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C88-AA2C-4F31-A802-F08269AE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0F30-C06F-4F3C-95E0-792E2A9B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3C6-0043-4466-911B-867E8C9B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4CBE-846E-40B0-94AF-BE228645E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harlene Luce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harlene Luc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05320"/>
            <a:ext cx="203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Sharlene. Yo vivo en Nueva York. Yo tengo catorce años. Yo tengo 1  hermano.Yo soy amable y energi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tardes amigas! Que tal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harlene, yo voy voy con    . ¿Cuando vamos a i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s!…. Quieres comprar helado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Buenas Noches amigas! ¡Ya voy a dormir!!!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9:32Z</dcterms:modified>
  <cp:revision>104</cp:revision>
  <dc:subject/>
  <dc:title>Profile</dc:title>
</cp:coreProperties>
</file>